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EEB-1E2F-4BAE-BF1F-43265397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151C-1130-4D2F-9C23-ED06530D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262-1739-45DA-8FEF-2FF86F82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1206-A28E-4F6A-B347-B604168E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156-5CBD-4CE3-8D12-E1F21BA5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CEF-37B7-4C90-8A61-FCB48162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D627-B83E-4455-8F2A-BE9EA78F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447-6153-4748-ADD6-417AFBDD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ECB-3F67-4581-8830-0868AF87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048F-838B-40DD-9AAC-A3530420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F736-FADF-4191-9DAD-693A94C0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CB1-8B28-4222-96AC-63AF71D7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2151-29B0-4302-9F5E-BFAACBE79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istorychannel.com/france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5238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eography Alive: Regions and Peo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ert Bower, pgs 11-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cover 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usan Little, pgs 12, 16-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ebsit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istorychannel.com/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nationalgeographic.com/germany/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4:20:51Z</dcterms:created>
  <dc:creator>tmoore</dc:creator>
  <dc:description/>
  <dc:language>en-US</dc:language>
  <cp:lastModifiedBy>tmoore</cp:lastModifiedBy>
  <dcterms:modified xsi:type="dcterms:W3CDTF">2009-02-09T14:21:07Z</dcterms:modified>
  <cp:revision>1</cp:revision>
  <dc:subject/>
  <dc:title>Bibliography</dc:title>
</cp:coreProperties>
</file>